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2DE8-7A0B-4422-9752-D00D1E34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1C3BE-9033-4923-BD3A-23BD353D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D178-4690-49A7-971F-B8A850BB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2587-48EA-4628-8603-F8441BFC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BE89-8166-4112-8DB3-4F3C989D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558A-4798-4932-9289-D4FBBDB8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B8B4-028D-408C-9C6F-29D3DFBD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CC43-2E96-4017-865A-A12B504B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0F0B-A350-4440-9012-2FF8879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8D02-C618-4B05-8FE9-98255599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135F-CCB8-45B8-944F-A7DBDC4A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C24A-4B80-4233-B80A-A609DA34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5E80-D977-4699-BC73-41AA5F25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0C0A-9631-400E-BBF4-544AD7B0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9FB0-66BD-4880-84BF-7AE74670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6482-A62E-459F-90C3-18FD8295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ECE5-F149-4CE1-AE47-E768E192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9711-4383-4EA1-BA1A-D7EDD38C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7498-7F33-4388-8E04-E082CA21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E955-F59B-45FF-BAB8-3963BEFE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4DB6-4ACE-4E34-8865-E7E862D2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CF27-578F-40D8-A386-237F70C6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D3E93-FF4B-4564-A1A6-3ECEBB00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460E-7958-414C-805D-4C50A10C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F1A4-2AEB-4A94-94A5-A382311B4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ff"/>
                  </a:gs>
                  <a:gs pos="100000">
                    <a:srgbClr val="e8b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ff"/>
                  </a:gs>
                  <a:gs pos="100000">
                    <a:srgbClr val="e8ba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a7d1"/>
                  </a:gs>
                  <a:gs pos="100000">
                    <a:srgbClr val="ff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b3e0"/>
                  </a:gs>
                  <a:gs pos="100000">
                    <a:srgbClr val="ffcc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add8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ff"/>
                  </a:gs>
                  <a:gs pos="100000">
                    <a:srgbClr val="e8b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ff"/>
                  </a:gs>
                  <a:gs pos="100000">
                    <a:srgbClr val="e8ba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a7d1"/>
                  </a:gs>
                  <a:gs pos="100000">
                    <a:srgbClr val="ff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b3e0"/>
                  </a:gs>
                  <a:gs pos="100000">
                    <a:srgbClr val="ffcc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add8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F376-E63E-48D9-BC57-2044517B6D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696080" cy="37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Garamond"/>
              </a:rPr>
              <a:t>Результаты ЕГЭ обучающихся 11-х классов в 2010-2011 учебном году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Результаты ЕГЭ Ревдской открытой (сменной) общеобразовательной школы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 в 2011 году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13"/>
          <p:cNvGraphicFramePr/>
          <p:nvPr/>
        </p:nvGraphicFramePr>
        <p:xfrm>
          <a:off x="0" y="81000"/>
          <a:ext cx="9144000" cy="67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000"/>
                    <a:ext cx="914400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Мониторинг среднего балла ЕГЭ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в РОСОШ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4"/>
          <p:cNvGraphicFramePr/>
          <p:nvPr/>
        </p:nvGraphicFramePr>
        <p:xfrm>
          <a:off x="0" y="81000"/>
          <a:ext cx="9144000" cy="67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000"/>
                    <a:ext cx="914400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Мониторинг максимального балла ЕГЭ, полученный выпускникам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Мониторинг числа выпускников ОУ,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не достигших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минимального балл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7"/>
          <p:cNvGraphicFramePr/>
          <p:nvPr/>
        </p:nvGraphicFramePr>
        <p:xfrm>
          <a:off x="0" y="81000"/>
          <a:ext cx="9144000" cy="67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000"/>
                    <a:ext cx="914400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Рейтинг общеобразовательных учреждений по результатам ЕГЭ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7"/>
          <p:cNvGraphicFramePr/>
          <p:nvPr/>
        </p:nvGraphicFramePr>
        <p:xfrm>
          <a:off x="0" y="228600"/>
          <a:ext cx="914400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Участники ЕГЭ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154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800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aramond"/>
              </a:rPr>
              <a:t>Выпускники 11-х классов ОУ – 58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001"/>
              </a:spcBef>
              <a:buClr>
                <a:srgbClr val="800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aramond"/>
              </a:rPr>
              <a:t>Выпускники ОСОШ – 24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001"/>
              </a:spcBef>
              <a:buClr>
                <a:srgbClr val="800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aramond"/>
              </a:rPr>
              <a:t>Всего – 8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10"/>
          <p:cNvGraphicFramePr/>
          <p:nvPr/>
        </p:nvGraphicFramePr>
        <p:xfrm>
          <a:off x="0" y="81000"/>
          <a:ext cx="9144000" cy="67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000"/>
                    <a:ext cx="914400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7"/>
          <p:cNvGraphicFramePr/>
          <p:nvPr/>
        </p:nvGraphicFramePr>
        <p:xfrm>
          <a:off x="0" y="81000"/>
          <a:ext cx="9144000" cy="67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000"/>
                    <a:ext cx="914400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7"/>
          <p:cNvGraphicFramePr/>
          <p:nvPr/>
        </p:nvGraphicFramePr>
        <p:xfrm>
          <a:off x="0" y="81000"/>
          <a:ext cx="9144000" cy="67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000"/>
                    <a:ext cx="914400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8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7"/>
          <p:cNvGraphicFramePr/>
          <p:nvPr/>
        </p:nvGraphicFramePr>
        <p:xfrm>
          <a:off x="4680" y="112680"/>
          <a:ext cx="9228240" cy="67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12680"/>
                    <a:ext cx="922824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Прямоугольник 5" descr=""/>
          <p:cNvPicPr/>
          <p:nvPr/>
        </p:nvPicPr>
        <p:blipFill>
          <a:blip r:embed="rId1"/>
          <a:stretch/>
        </p:blipFill>
        <p:spPr>
          <a:xfrm>
            <a:off x="1596960" y="768240"/>
            <a:ext cx="639468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Мониторинг  результатов ЕГЭ по обязательным предметам по среднему баллу на основе статистики основных результатов ЕГЭ Мурманской обла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13"/>
          <p:cNvGraphicFramePr/>
          <p:nvPr/>
        </p:nvGraphicFramePr>
        <p:xfrm>
          <a:off x="0" y="81000"/>
          <a:ext cx="9144000" cy="67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000"/>
                    <a:ext cx="914400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10"/>
          <p:cNvGraphicFramePr/>
          <p:nvPr/>
        </p:nvGraphicFramePr>
        <p:xfrm>
          <a:off x="0" y="81000"/>
          <a:ext cx="9144000" cy="67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000"/>
                    <a:ext cx="914400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Результаты ЕГЭ  обучающихся 11-х классов по предметам по выбору в 2011 году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4"/>
          <p:cNvGraphicFramePr/>
          <p:nvPr/>
        </p:nvGraphicFramePr>
        <p:xfrm>
          <a:off x="0" y="81000"/>
          <a:ext cx="9144000" cy="67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000"/>
                    <a:ext cx="914400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Мониторинг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среднего балла ЕГЭ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4"/>
          <p:cNvGraphicFramePr/>
          <p:nvPr/>
        </p:nvGraphicFramePr>
        <p:xfrm>
          <a:off x="0" y="81000"/>
          <a:ext cx="9144000" cy="67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000"/>
                    <a:ext cx="914400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03T14:18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